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9B67-F121-46DF-BF15-4B32CFB7FA8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2EB4-F64A-47EE-A6A5-E95BACCAB45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178D-DCAE-4848-BEDB-EA7D51C898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03FC-51BB-4948-A607-37B9E7CAE31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CB7F-2500-45C5-A5A3-744649F322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65E0-95B8-41E9-BCD6-C5B6B8D67B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2549-D218-4E1B-86E1-6F1C0DAE631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0751-4A49-458C-A0F9-CA9C60F439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16B-EC58-4D2B-9060-884AB7E3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CE2-4520-4EDA-B1A4-39CD7087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E5768-E856-4D71-BAF1-65DECFCE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30DE3-1001-4044-AEF2-CA1C10E0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97C26-AB85-443F-B726-C39D1C34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D949E-C194-45C0-A604-313A9B67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4ABCF-7C7A-451F-ACE2-7FF2D626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682F7-AD30-4995-89E3-756647C3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91324-3823-4646-9A8C-FE8FC288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C8795-CE03-4FB2-ABF9-9AB4E00F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B0074-1ECB-4C68-B985-8629F4DC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F2850-4DE1-4BC0-A4DB-83B0F936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177-0625-4DD2-BDCF-C24DC8EC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9D5D2-0081-4FC6-98A8-D549D8EC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7A537-5E00-44FB-8293-78D4EA66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AE4E3-AD1F-45C9-8E1D-BB292B6C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34F85-B808-47F8-9E3F-3DEBADC9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D302A-27CB-499C-8BDC-1D030C74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BE378-7EB4-4ACF-880F-99DC5A3F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FE7C5-CBA8-45C7-AC43-63298B8D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753EB-D05A-444A-9C35-952ECD2A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6633B-6287-45FB-9B81-D33DDDF2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84D19-F176-4F01-9738-58F4C9D2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0EB-84DF-4949-98D0-69E7291D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4AC85-09B0-46A0-9DEF-C3FA9243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8D8F5-EB93-4233-9046-905563CB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2DD9D-446B-4B8F-887A-40519049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D087D-4154-4BF3-A572-EC818D31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70968-4ED2-43A3-934C-F55CB770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45620-50BB-4F6C-A504-D8699AEC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C44C4-A441-4716-A2D6-AD8FB846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0B6A2-B9FA-4753-83F9-50A9EB9C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D31F1-7260-4FA0-82EA-C84C151E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E198A-0929-43FC-9F65-6683BBFF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C01C-4E62-41C6-9612-303D9F6D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3A21E-4509-47F5-98CE-6B2B1CDF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4BA6D-AA21-445C-9F95-E0858F8C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0783A-B536-45A1-BC77-B1DE1400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7014C-D53E-4988-910D-D50FE634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E97DF-BA07-4EC5-84F9-5DE0DB19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A39B9-AC8F-42D9-BE36-D24C92FB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DE863-284E-4124-8A74-9EF2BD3D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EC24F-880D-43A8-9299-07A4FBB2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623A8-30D0-4894-A08A-B01A35F9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9AF5B-E226-48F2-8E43-CEFE5D55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F0E5-3BCD-46F3-9A79-816DAE5B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C874C-D58C-4346-93E1-339626B9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A4327-9235-427C-809F-8001EB13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C2C91-BA0B-4AC8-A368-20BB09E0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88494-2F3D-46BD-BAFE-B0C1B2CB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AAE1F-34AA-448E-BED5-B437AB06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99DF-4EB1-4C78-A534-2F55C595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5FB2-975C-4C96-8969-8B30085D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1B23-A249-492F-9D7C-35E877F8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FA24-0897-4008-B922-A3F1539C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6F73-7875-4ABA-8A2C-9C3C9060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9F9-9CEB-4550-9BE7-E2548754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9A56-8206-46AE-A39A-D11AD0D9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E527-7723-44E0-9EB6-C24AADA8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2F21-120A-40FC-97BE-F889FC91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9FB0-8487-4360-9C49-B0213993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1944-3106-43EE-BA63-E4B22006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1418-4E93-40DA-AEB7-4B17F169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E5BC8-7D9A-4C15-96C4-ACEABFB8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E1BB-3EA4-4205-B0A7-6F251E68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7995-7C1C-47EA-A54F-191D703E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917F7-54C7-424F-A610-26E630AF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6B9-69B9-4AB5-8A81-F803EF40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5DF2-CD65-47AA-B373-51F52947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C301-5AAA-4023-A2AB-F969C27E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9FF6-09F2-472C-A1BF-AFC6E08C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1A69-AA15-4B17-8703-55930FD4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F530-7CDB-40BA-9D81-C09E60B6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2A45-9499-47C9-A743-32AE091F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F99E-9CCF-480B-B635-D4536C09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76797-AEB7-4F72-BF1B-9638527E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A23CB-8BFE-4B7F-8857-C51ABA1A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7CE1-C46F-4326-9662-4E9ACA45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DD8-7FF9-4CAD-94B4-48893C9B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52C4C-8F51-4625-A667-B378E64C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5CC7F-8D34-4A6C-8F44-45C1BF2E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884AC-FC97-4B38-A3C5-8CDCA654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91C1B-DAF8-484B-A55A-CBE455D3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C82B-DC87-4E0D-9BC5-4D6AE427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AF8AE-E583-422E-9268-BFA8449A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6C1F-46CB-44B7-9A0A-30C2C899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F23B4-6C04-4072-9A21-D54FECF3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D2DD6-B10E-44F1-ADB2-392E7D5B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D4FA9-8BEA-4B8C-97C5-8F035C55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690-9066-4678-8D81-6A431F2C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32A1A-4985-4D95-93A8-336AB6B2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E7055-3888-41F4-B966-8715D4E9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DFCF7-3CD8-4BF5-9328-4A997084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EE010-A6DB-4901-B271-BC84C437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67F07-2DA9-43CC-BE89-784A7F6D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14C1F-D3AE-42B0-A36B-0B02756D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81870-E89F-4C75-90B3-2020D826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A3A91-4F03-4944-9004-5C432FD5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62B8E-3103-4AD1-AE55-9D698537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DB1BE-6682-40D4-B213-CF4175A9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8E1-9600-47A0-B963-CB277B3D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31739-6302-4074-8CC4-86D7FAAD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99B8F-455D-4C55-9A14-1A29CA4A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F41E9-75C4-427E-AE1B-D5DC431F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A26D4-906C-4F10-8260-AD20D3F2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64ACD-91B9-4BD3-83A2-E2DC505C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9FC41-DB44-4083-8E83-14B80907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4DB4B-1B15-401B-A59B-CFD246EB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7A7DD-2BB6-41EF-B686-A8EA831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EAD00-5F10-45DC-95CA-7190477F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40C6F-6147-4D1D-B493-4089141F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BCC-5FCE-4BD0-A899-F5BC2600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3AD2A-B586-4FA5-B9F1-2BC1BDB2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FB0BF-C5C5-4806-921B-3552A358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22F04-949C-489E-B59A-9EF81B09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D5BB0-9ED8-4425-A89F-11820C73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7096C-5927-4B74-AF60-3E233E61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75818-C294-4804-A93A-8178ED6F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92C8F-1854-4F48-88B7-2200D71C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060AB-1351-4ED2-94CE-D2CEFCB0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AFE40-84F3-4468-A807-5E71A687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302BE-51BE-4090-920E-224B5AB7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F28-CAA8-4D2B-888C-8A2A94AF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0FC7C-8A68-4C22-AED9-3C44C0A0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04BC4-0222-471C-BFED-4A97DBDA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70605-E83C-46D9-BBEA-0CB8101B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8EE2C-835C-4A48-924B-0C6FDFA4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40F41-F130-4ECB-B339-E1D40BF5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522DE-15C8-45CE-ADFA-88D97EA5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2B69A-E4B4-4849-8526-BD4D98AA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A6AEE-F410-4C86-8000-A24A113B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58390-C408-4C41-AE6A-417C1FB5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1F8D2-BD20-419D-AE97-CDCA8C9F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9B6-8976-4613-9F33-E67C3D30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77E2C-279A-43B1-8C69-6E370408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3D5AF-3524-4C75-8D84-CE0868B2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207EB-53FF-422A-8716-BE06DBDB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CDC73-FBD8-4981-A5EE-02CA1FB7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314AC-6B7D-4F10-8CF7-A87B6EB9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72727-40AF-4C0C-A3E7-A9352353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ABA3A-E8AD-430C-A3A7-9C157E29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90A95-DACB-4939-82A6-CD72FCDD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A2FCE-BB31-42B1-A3FC-D48E7F3C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15167-E0C2-45EC-839F-A7C133CD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EE28-0B14-4B1A-838F-8684B3300E0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20DB-CC3A-49F2-B0CA-ACC920054C8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5E73-8EA4-4230-9225-30CFA4724BA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B441-87B6-42B9-8FCC-925C2F04F66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F37B-41F1-47ED-885B-61805A9517F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77E6-E099-4651-AC83-830A1F1D9BF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30C8-4DB6-43E6-B9F2-0584ED73A82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8216-E7AE-4344-A2A0-75D5CA852BD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4B4A-6509-4362-8DDC-C1C08077DFE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69C7-22B3-48A0-BEE5-6EA8F085426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B0EC-FA00-4C49-BC40-78E0B593E84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4852-2914-40F0-B804-A817B48B3FF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310 Vzácny priateľ je Pán Ježi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Vzácny priateľ je Pán Ježiš,</a:t>
            </a:r>
            <a:br>
              <a:rPr sz="4800"/>
            </a:br>
            <a:r>
              <a:rPr b="1" lang="cs-CZ" sz="4700" spc="-1" strike="noStrike">
                <a:solidFill>
                  <a:srgbClr val="ffffff"/>
                </a:solidFill>
                <a:latin typeface="Arial"/>
              </a:rPr>
              <a:t>s láskou vždy sa skláňa k nám,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jeho Slova pokrm svieži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dáva silu k víťazstv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ffff"/>
                </a:solidFill>
                <a:latin typeface="Arial"/>
              </a:rPr>
              <a:t>Keď sa strachom srdce chveje,</a:t>
            </a:r>
            <a:br>
              <a:rPr sz="47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v hmlách sa stráca cesty cieľ,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modlitba zas nádej vleje,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pomoc pošle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Keď ťa žiaľ či starosť tlačí,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svoj či cudzí nesieš kríž,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v námahe či bôľnom plači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s modlitbou sa k Bohu blí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Nenájde sa v svete šírom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priateľ rovný Pánovi,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vie vždy pomôcť,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svojím Slovom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radosť v srdci obnoví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Všetci hriechom obťažení,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poďte ku mne, volá Pán,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nádej dáva v každej tiesni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lásky Božej spásny pl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S dôverou vždy, v každom žiali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stíš sa k prosbe pokornej,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spievať budeš pieseň chvály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v cieli cesty víťaznej.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17:04Z</dcterms:modified>
  <cp:revision>25</cp:revision>
  <dc:subject/>
  <dc:title>Je veľký náš Pán, on slávy je Kráľ Nech do všetkých strán  spev vrúcnych znie chvál.</dc:title>
</cp:coreProperties>
</file>